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734-3F7B-44ED-9173-BA27E6C2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F35-DBB4-438F-8AA7-4D8D5F69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2CA-C18D-426B-83D9-FBC8C109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E1B-6258-4A30-A637-390E0EDE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B1C-C561-4A62-BED2-D25082F8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DC9-1C9F-4B06-96DA-ACDAA941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3A2-FCD3-470A-AE40-FEEB280E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EDFF-B680-499A-ACC6-31E673CB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7F4-000E-4EAA-8372-E1B90687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881-EE43-4229-8959-D2AFDACE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2E6-472F-4DB6-ADFA-C3ABEAFD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204-A7FB-4936-BA54-7E307E64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D9EF-520A-488A-BA13-EE3ADC728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www.phschool.com/atschool/academy123/html/bbapplet_wl-problem-430969.html" TargetMode="External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one-step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7924680" cy="838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7848360" cy="93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10280" y="5257800"/>
            <a:ext cx="1255680" cy="1217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7467480" y="2819520"/>
            <a:ext cx="1255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4078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 &gt;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 7 &gt;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3048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 4 &lt;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m &gt;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 &lt; -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4114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5 &lt;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019920" y="3276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583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46483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ome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2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266724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534520" cy="1122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85345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7234200" cy="5287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6688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 &lt;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362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 10 &lt;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259092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36720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7 + s &lt; 65,   s &lt;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4724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m &gt;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5334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 &gt; - 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95480" y="556236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2759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4648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of the day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915400" cy="261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280" y="5181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omework to go o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819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1112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219320" y="4343400"/>
            <a:ext cx="7696080" cy="623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4267080"/>
            <a:ext cx="990720" cy="731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086600" y="3048120"/>
            <a:ext cx="114300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8686800" cy="1095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4343400"/>
            <a:ext cx="8001000" cy="77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4267080"/>
            <a:ext cx="990720" cy="731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781680" y="2590920"/>
            <a:ext cx="1255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1643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8229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2:25:49Z</dcterms:created>
  <dc:creator>Susannah Graham</dc:creator>
  <dc:description/>
  <dc:language>en-US</dc:language>
  <cp:lastModifiedBy>grahams</cp:lastModifiedBy>
  <dcterms:modified xsi:type="dcterms:W3CDTF">2011-10-21T13:03:32Z</dcterms:modified>
  <cp:revision>13</cp:revision>
  <dc:subject/>
  <dc:title>Problem of the day!!!</dc:title>
</cp:coreProperties>
</file>